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comments/comment2.xml" ContentType="application/vnd.openxmlformats-officedocument.presentationml.comments+xml"/>
  <Override PartName="/ppt/comments/comment3.xml" ContentType="application/vnd.openxmlformats-officedocument.presentationml.comments+xml"/>
  <Override PartName="/ppt/comments/comment10.xml" ContentType="application/vnd.openxmlformats-officedocument.presentationml.comments+xml"/>
  <Override PartName="/ppt/comments/comment4.xml" ContentType="application/vnd.openxmlformats-officedocument.presentationml.comments+xml"/>
  <Override PartName="/ppt/comments/comment11.xml" ContentType="application/vnd.openxmlformats-officedocument.presentationml.comments+xml"/>
  <Override PartName="/ppt/comments/comment5.xml" ContentType="application/vnd.openxmlformats-officedocument.presentationml.comments+xml"/>
  <Override PartName="/ppt/comments/comment6.xml" ContentType="application/vnd.openxmlformats-officedocument.presentationml.comments+xml"/>
  <Override PartName="/ppt/comments/comment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9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<Relationship Id="rId20" Type="http://schemas.openxmlformats.org/officeDocument/2006/relationships/commentAuthors" Target="commentAuthors.xml"/>
</Relationships>
</file>

<file path=ppt/comments/comment10.xml><?xml version="1.0" encoding="utf-8"?>
<p:cmLst xmlns:p="http://schemas.openxmlformats.org/presentationml/2006/main">
  <p:cm authorId="0" dt="2008-02-03T15:22:32.359000000" idx="8">
    <p:pos x="190" y="1960"/>
    <p:text>Good stuff!</p:text>
  </p:cm>
</p:cmLst>
</file>

<file path=ppt/comments/comment11.xml><?xml version="1.0" encoding="utf-8"?>
<p:cmLst xmlns:p="http://schemas.openxmlformats.org/presentationml/2006/main">
  <p:cm authorId="0" dt="2008-02-03T15:25:02.656000000" idx="9">
    <p:pos x="250" y="2728"/>
    <p:text>Our kind of thinking ... not by coincidence :)</p:text>
  </p:cm>
</p:cmLst>
</file>

<file path=ppt/comments/comment2.xml><?xml version="1.0" encoding="utf-8"?>
<p:cmLst xmlns:p="http://schemas.openxmlformats.org/presentationml/2006/main">
  <p:cm authorId="0" dt="2008-02-03T15:05:26.265000000" idx="1">
    <p:pos x="246" y="3265"/>
    <p:text>This is the GEOSS task for the Pilot. </p:text>
  </p:cm>
</p:cmLst>
</file>

<file path=ppt/comments/comment3.xml><?xml version="1.0" encoding="utf-8"?>
<p:cmLst xmlns:p="http://schemas.openxmlformats.org/presentationml/2006/main">
  <p:cm authorId="0" dt="2008-02-03T15:08:28.406000000" idx="2">
    <p:pos x="112" y="2794"/>
    <p:text>This was the product of Pilot 2007! </p:text>
  </p:cm>
</p:cmLst>
</file>

<file path=ppt/comments/comment4.xml><?xml version="1.0" encoding="utf-8"?>
<p:cmLst xmlns:p="http://schemas.openxmlformats.org/presentationml/2006/main">
  <p:cm authorId="0" dt="2008-02-03T15:10:39.546000000" idx="3">
    <p:pos x="142" y="1666"/>
    <p:text>All three activities barely started. </p:text>
  </p:cm>
</p:cmLst>
</file>

<file path=ppt/comments/comment5.xml><?xml version="1.0" encoding="utf-8"?>
<p:cmLst xmlns:p="http://schemas.openxmlformats.org/presentationml/2006/main">
  <p:cm authorId="0" dt="2008-02-03T15:14:15.953000000" idx="4">
    <p:pos x="190" y="1654"/>
    <p:text>A rather meager pool of components and services 
Pilots supposed the main source of registered components and services, but it did not yet happen (DataFed provided many of the registered services). </p:text>
  </p:cm>
</p:cmLst>
</file>

<file path=ppt/comments/comment6.xml><?xml version="1.0" encoding="utf-8"?>
<p:cmLst xmlns:p="http://schemas.openxmlformats.org/presentationml/2006/main">
  <p:cm authorId="0" dt="2008-02-03T15:16:07.656000000" idx="5">
    <p:pos x="124" y="1360"/>
    <p:text>Good thing - from Rhusar perspective</p:text>
  </p:cm>
  <p:cm authorId="0" dt="2008-02-03T15:16:34.046000000" idx="6">
    <p:pos x="124" y="3484"/>
    <p:text>Good thing - from Rhusar perspective</p:text>
  </p:cm>
</p:cmLst>
</file>

<file path=ppt/comments/comment7.xml><?xml version="1.0" encoding="utf-8"?>
<p:cmLst xmlns:p="http://schemas.openxmlformats.org/presentationml/2006/main">
  <p:cm authorId="0" dt="2008-02-03T15:18:10.984000000" idx="7">
    <p:pos x="220" y="3142"/>
    <p:text>Yes! This is what we want. A persistent service integration infrastructure for air quality. 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4F5C-BCC7-4D18-8DA7-4353D1AAF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1E4B-81DA-4298-95B8-4B9141A45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09B7-52F4-4ABE-9B07-516764EE9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5CCB-196A-404E-9B2D-B94E5688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A5DC-8674-4ACC-9C9B-508D0FCB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DC0B-C5B2-4D04-8BC6-FEEC28E4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7893-5CBF-4A72-B669-25ADC828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2F37-3EB2-4AD2-8C51-F85901D0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4EA9-A95B-4D4F-BD49-19A49D4D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3FB0-A774-4B5C-99C1-13BA5A76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46B1-3818-4AAC-BC56-D7C3593F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5A93-C86B-49CE-8650-62C88412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AEDF-3401-4462-92B4-079F33281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CA0B-7494-45AF-9165-1F8AB23D9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4111-4304-4C8A-8067-CEF7760E7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title"/>
          </p:nvPr>
        </p:nvSpPr>
        <p:spPr>
          <a:xfrm>
            <a:off x="685800" y="28951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4.jpe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5.xml"/><Relationship Id="rId1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ogcnetwork.net/AIpilot" TargetMode="External"/><Relationship Id="rId2" Type="http://schemas.openxmlformats.org/officeDocument/2006/relationships/hyperlink" Target="http://www.ogcnetwork.net/AIPdemos" TargetMode="External"/><Relationship Id="rId3" Type="http://schemas.openxmlformats.org/officeDocument/2006/relationships/slideLayout" Target="../slideLayouts/slideLayout3.xml"/><Relationship Id="rId4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687680"/>
            <a:ext cx="7331040" cy="17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a"/>
                </a:solidFill>
                <a:latin typeface="Arial"/>
              </a:rPr>
              <a:t>GEO Architecture and Data Committee</a:t>
            </a:r>
            <a:br>
              <a:rPr sz="2800"/>
            </a:br>
            <a:r>
              <a:rPr b="1" lang="en-GB" sz="3600" spc="-1" strike="noStrike">
                <a:solidFill>
                  <a:srgbClr val="005faa"/>
                </a:solidFill>
                <a:latin typeface="Arial"/>
              </a:rPr>
              <a:t>Architecture Workshop</a:t>
            </a: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sted by the European Commis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the Joint Researc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bruary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24360" y="819000"/>
            <a:ext cx="201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AF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4852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Breakout Sessions – Summary Findings I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84872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A spectrum of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End Users (Top level Decision/policy makers, managers) in need of user friendly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esearchers more focused on source and quality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Accommodate different needs &amp; level of expert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Users versus Prov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Encourage connectivity between the two and between models and data prov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Iterative, interactive feedback from users &amp; ability to correct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Need for interoperable cross-domain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Improved connection between modeling and observation 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Breakout Sessions – Summary Findings III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8029440" cy="42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oS Architecture key desired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er simple, seamless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high availability, reliability, security,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ilitate interoper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for technology evolution &amp; new technology inser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oughts on interoper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Focus on connecting systems within a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Interfaces are abstracted in “wrappers” developed cooperatively by Providers &amp;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Include ontology in Interoperability reg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Build a little, test a little: demonstrations, prototypes and  pilots are ess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 look forward- Workshops for 2008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303200" y="2863800"/>
            <a:ext cx="6859800" cy="32828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223520" y="6192720"/>
            <a:ext cx="25369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ra, Ghana - 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ter Security &amp; Eco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456320" y="2744640"/>
            <a:ext cx="15559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ijing, China-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r Quality &amp; Heal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42560" y="2125800"/>
            <a:ext cx="14914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obe, Japan-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eans &amp; Wa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26600" y="2114640"/>
            <a:ext cx="17870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bec, Canada-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ience Modeling &am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Poli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1240" y="2133720"/>
            <a:ext cx="17762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ronto, Canada-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IC worksh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8360" y="2962440"/>
            <a:ext cx="17917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ston, USA-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r Quality &amp; coas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77680" y="2125800"/>
            <a:ext cx="11347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ain-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GEO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8080" y="5791320"/>
            <a:ext cx="22136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nolulu, Hawaii-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disaster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71760" y="4019400"/>
            <a:ext cx="62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o many workshops, so little ti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rchitecture Workshop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ve meeting to develop requirements for GEOSS Architecture developm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sults will become part of a Call for Participation in 2008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cenarios identified through collaboration of the GEO UIC and A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omain-specific GEO Tasks can utilize AIP (AR-07-02) to utilize the GEOSS Core Architectur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680" y="6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 Pilot Development Approach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300320" y="2463840"/>
            <a:ext cx="1003320" cy="652320"/>
          </a:xfrm>
          <a:custGeom>
            <a:avLst/>
            <a:gdLst>
              <a:gd name="textAreaLeft" fmla="*/ 0 w 1003320"/>
              <a:gd name="textAreaRight" fmla="*/ 1003320 w 1003320"/>
              <a:gd name="textAreaTop" fmla="*/ 360 h 652320"/>
              <a:gd name="textAreaBottom" fmla="*/ 6530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986200" y="3301200"/>
            <a:ext cx="1003320" cy="652680"/>
          </a:xfrm>
          <a:custGeom>
            <a:avLst/>
            <a:gdLst>
              <a:gd name="textAreaLeft" fmla="*/ 0 w 1003320"/>
              <a:gd name="textAreaRight" fmla="*/ 1003320 w 1003320"/>
              <a:gd name="textAreaTop" fmla="*/ -360 h 652680"/>
              <a:gd name="textAreaBottom" fmla="*/ 652680 h 652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572000" y="4140360"/>
            <a:ext cx="762120" cy="652320"/>
          </a:xfrm>
          <a:custGeom>
            <a:avLst/>
            <a:gdLst>
              <a:gd name="textAreaLeft" fmla="*/ 0 w 762120"/>
              <a:gd name="textAreaRight" fmla="*/ 762480 w 762120"/>
              <a:gd name="textAreaTop" fmla="*/ 360 h 652320"/>
              <a:gd name="textAreaBottom" fmla="*/ 6530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35760" y="5180760"/>
            <a:ext cx="1066680" cy="652680"/>
          </a:xfrm>
          <a:custGeom>
            <a:avLst/>
            <a:gdLst>
              <a:gd name="textAreaLeft" fmla="*/ 0 w 1066680"/>
              <a:gd name="textAreaRight" fmla="*/ 1067040 w 1066680"/>
              <a:gd name="textAreaTop" fmla="*/ -360 h 652680"/>
              <a:gd name="textAreaBottom" fmla="*/ 652680 h 652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84800" y="4612320"/>
            <a:ext cx="172548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89480" y="4258800"/>
            <a:ext cx="1708200" cy="337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Phase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017960" y="3174480"/>
            <a:ext cx="1471680" cy="988200"/>
            <a:chOff x="4017960" y="3174480"/>
            <a:chExt cx="1471680" cy="988200"/>
          </a:xfrm>
        </p:grpSpPr>
        <p:sp>
          <p:nvSpPr>
            <p:cNvPr id="135" name=""/>
            <p:cNvSpPr/>
            <p:nvPr/>
          </p:nvSpPr>
          <p:spPr>
            <a:xfrm>
              <a:off x="4017960" y="3520080"/>
              <a:ext cx="1471680" cy="642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ick-o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orksh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21200" y="3174480"/>
              <a:ext cx="1468440" cy="3373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Phase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366640" y="2731320"/>
            <a:ext cx="1566000" cy="6426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33520" y="2387160"/>
            <a:ext cx="1603440" cy="3373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Pha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39720" y="1553760"/>
            <a:ext cx="1641240" cy="983520"/>
            <a:chOff x="639720" y="1553760"/>
            <a:chExt cx="1641240" cy="983520"/>
          </a:xfrm>
        </p:grpSpPr>
        <p:sp>
          <p:nvSpPr>
            <p:cNvPr id="140" name=""/>
            <p:cNvSpPr/>
            <p:nvPr/>
          </p:nvSpPr>
          <p:spPr>
            <a:xfrm>
              <a:off x="639720" y="1894680"/>
              <a:ext cx="1636560" cy="6426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ce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2960" y="1553760"/>
              <a:ext cx="1638000" cy="3373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Phase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7078680" y="5475960"/>
            <a:ext cx="1520640" cy="6426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is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85160" y="5142960"/>
            <a:ext cx="1514160" cy="3373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Phase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GEOSS Core Architecture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	</a:t>
            </a:r>
            <a:br>
              <a:rPr sz="2800"/>
            </a:b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Initial Operating Capability (IOC)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 Web Portal, Clearinghouse, and Regist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to register, discover and use ser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SS Interoperability Arrang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2007, GEO ADC guided development of IOC through its core tas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-07-01 - Enabling Deployment of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R-07-02 - Architecture Implementation Pi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demonstrated at EO Summit and GEO-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1676520"/>
            <a:ext cx="822960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faa"/>
                </a:solidFill>
                <a:latin typeface="Arial"/>
              </a:rPr>
              <a:t>GEO Task AR-07-02</a:t>
            </a:r>
            <a:br>
              <a:rPr sz="2400"/>
            </a:br>
            <a:r>
              <a:rPr b="1" lang="en-GB" sz="2400" spc="-1" strike="noStrike">
                <a:solidFill>
                  <a:srgbClr val="005faa"/>
                </a:solidFill>
                <a:latin typeface="Arial"/>
              </a:rPr>
              <a:t>GEO Architecture </a:t>
            </a:r>
            <a:r>
              <a:rPr b="1" lang="en-US" sz="2400" spc="-1" strike="noStrike">
                <a:solidFill>
                  <a:srgbClr val="005faa"/>
                </a:solidFill>
                <a:latin typeface="Arial"/>
              </a:rPr>
              <a:t>Implementation Pilot - 2007</a:t>
            </a:r>
            <a:endParaRPr b="1" lang="en-US" sz="24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9216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d effective development proc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FP, Kickoff, Execution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ly 120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ed effective communication metho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nternational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gcnetwork.net/AIpi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oduced  Screencasts of Initial Operating Cap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gcnetwork.net/AIPdemo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d “Core Architecture Implementation Repor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GEOSS Architecture Status 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Architecture validated through ADC core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Deployed, tested and demonstrated in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Component types and interactions confi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mmendations for Interoperability Arrang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istent with GEOSS Strategic Guidance Document and Tactical Guidance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GEOSS Architecture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Operating Capability (IOC)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64 Components &amp; 75 Services registered (21 Nov 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O Web Portals (3), Community Portals (27) and Decision Support Clients (13) for User access to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veral organizations capable of provi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O Web Portal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OSS Clearinghous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GEOSS Architecture - Further Developmen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81439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e"/>
                </a:solidFill>
                <a:latin typeface="Arial"/>
              </a:rPr>
              <a:t>Increase collaboration with GEO Committees, Communities of Practice and relevant GEO Tas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commitment to Operational requirements to support persis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al, Clearinghouse and othe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Sensor Component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, acquire and process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-calibration scenario, e.g., CE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f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e"/>
                </a:solidFill>
                <a:latin typeface="Arial"/>
              </a:rPr>
              <a:t>Workflow for observation processing and decision support, e.g., Fed Earth Observation (FedEO) pi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R-07-02 Task Definition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Sheet slightly revised at ADC-5, September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e Implementation Pilot emphasis retained: Portals, Clearinghouse, Catalogues, an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sensors interoperability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e"/>
                </a:solidFill>
                <a:latin typeface="Arial"/>
              </a:rPr>
              <a:t>Two items a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e"/>
                </a:solidFill>
                <a:latin typeface="Arial"/>
              </a:rPr>
              <a:t>Persistent Infrastructure for Service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e"/>
                </a:solidFill>
                <a:latin typeface="Arial"/>
              </a:rPr>
              <a:t>GEOSS User and Architecture Worksh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GEO Architecture Workshop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bruary 4&amp;5, 200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located at JRC Ispra with ADC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: Consensus building in support of C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 candidates: interactions with UIC &amp; CoP re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refinement of the CFP-2007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ained operations for information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Implementation Report to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9880" y="2133360"/>
            <a:ext cx="779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5faa"/>
                </a:solidFill>
                <a:latin typeface="Arial"/>
              </a:rPr>
              <a:t>UIC/ADC Collaboration</a:t>
            </a:r>
            <a:r>
              <a:rPr b="1" lang="en-US" sz="4800" spc="-1" strike="noStrike">
                <a:solidFill>
                  <a:srgbClr val="005faa"/>
                </a:solidFill>
                <a:latin typeface="Arial"/>
              </a:rPr>
              <a:t>	</a:t>
            </a:r>
            <a:endParaRPr b="1" lang="en-US" sz="4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sworth LeDr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 UIC Co-Ch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438120"/>
            <a:ext cx="5838840" cy="35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llo Dr LeDrew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note from George Pecivall's schedule that you will be discussing the  UIC/ADC Collaboration at the Ispra AIP worksho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air quality community appreciates that ADC and your UIC Committee (Gary Foley,  yourself, Brendan Kelly, and others) is pursuing a strengthened  UIC/ADC connection. The incorporation of an Air Quality scenario into the Pilot is an outstanding opportunity to contribute to that effort as part of a domain-specific Pilot.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your information, the self-organizing group that has prepared the AIP Pilot - Air Quality Scenario appears to be an emerging "Community of Practice" interested in Air Quality applications using the GEOSS Architecture and User Interface Committee principles. A slide from John White's presentation at Ispra has the relevant links. The Air Quality group is keenly interested in perusing and strengthening UIC/ADS link in this scenario through the continued development of the principles and methods for Communities of Practice - and testing those in this Air Quality Pilo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put and guidance from Gary Foley, yourself, Brendan Kelly, George Percivall and others will be appreciat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dially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dy Husa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8-02-03T21:35:24Z</dcterms:modified>
  <cp:revision>242</cp:revision>
  <dc:subject/>
  <dc:title>Update on OGC involvement in GEOSS</dc:title>
</cp:coreProperties>
</file>